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4FC13-2EE4-449A-B942-76913D5E7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CBD80-C296-4B72-A497-0BD9DBE41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DA19F-2E31-4107-82DD-8D37C78A3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EB907-CB0F-444A-B164-C1BF8A145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77EC2-DF91-43C8-9E4B-AF07BF555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335E9-E874-4B10-BE59-71C7F536A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32831-6323-4A80-BAB5-3F0673826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8C9B3-7174-4BE6-9973-96785C8DB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F41D1-169B-47BD-962E-3D6D362C8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1EA03-5CD6-4D88-8DF7-1921515F9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F27C3-DBEC-4A1E-BD05-B50C7B5A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B0D2C-108D-4995-8CBB-FE3ED770F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45278-6692-49F9-898B-28418F3B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7132A-7491-4DC9-9528-DF77D6BD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C65FF-4CF3-45F4-8A90-0D515AE9B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DDA5E-67AD-4A2F-BA15-EC153D6F2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23F4F-F94F-40E5-8624-9FC4A4A59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67BC2-EF37-4436-A182-9798BE97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2B567-24B0-4AE3-B109-87F71AC4A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9AE45-A6A6-4FD5-A4D0-9328D91B5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DC711-24B4-43B7-9001-E9598189E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E4A63-D229-4DAF-83C8-FFE8AE65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9A5BB-946C-4730-8FAC-39DB1F62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EE37E-4E99-4A1B-898C-69029B3E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5981-7289-49BA-9D09-0CB731808A1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8242C-B2FA-4F4A-B0A3-73911D2211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19520" y="1295280"/>
            <a:ext cx="58672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100" spc="-1" strike="noStrike">
                <a:solidFill>
                  <a:srgbClr val="ffffff"/>
                </a:solidFill>
                <a:latin typeface="Arial"/>
              </a:rPr>
              <a:t>УЗРОЧНОСТ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CS" sz="4100" spc="-1" strike="noStrike">
                <a:solidFill>
                  <a:srgbClr val="ffffff"/>
                </a:solidFill>
                <a:latin typeface="Arial"/>
              </a:rPr>
              <a:t>каузалност поремећаја здравља и болести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142640" y="43430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685440"/>
            <a:ext cx="7010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900" spc="-1" strike="noStrike">
                <a:solidFill>
                  <a:srgbClr val="ffffff"/>
                </a:solidFill>
                <a:latin typeface="Arial"/>
              </a:rPr>
              <a:t>Постојање повезаности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900" spc="-1" strike="noStrike">
                <a:solidFill>
                  <a:srgbClr val="ffffff"/>
                </a:solidFill>
                <a:latin typeface="Arial Cirilica"/>
              </a:rPr>
              <a:t>двеју</a:t>
            </a:r>
            <a:r>
              <a:rPr b="0" lang="en-US" sz="3900" spc="-1" strike="noStrike">
                <a:solidFill>
                  <a:srgbClr val="ffffff"/>
                </a:solidFill>
                <a:latin typeface="Arial Cirilica"/>
              </a:rPr>
              <a:t> </a:t>
            </a:r>
            <a:r>
              <a:rPr b="0" lang="sr-CS" sz="3900" spc="-1" strike="noStrike">
                <a:solidFill>
                  <a:srgbClr val="ffffff"/>
                </a:solidFill>
                <a:latin typeface="Arial Cirilica"/>
              </a:rPr>
              <a:t>појава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Н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мора у сваком случају да означава узрочну асоцијациј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Н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значи да појава која претходи другој представља непосредни узр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900" spc="-1" strike="noStrike">
                <a:solidFill>
                  <a:srgbClr val="ffffff"/>
                </a:solidFill>
                <a:latin typeface="Arial"/>
              </a:rPr>
              <a:t>Повезаност догађаја?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А. Статистички неповезани (независн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Б. Статистички повезан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позитивно или негативно</a:t>
            </a: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Н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еузрочно повеза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лажно повеза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секундарно повеза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У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зрочно повеза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22904"/>
                </a:solidFill>
                <a:latin typeface="Arial"/>
              </a:rPr>
              <a:t>A.</a:t>
            </a:r>
            <a:r>
              <a:rPr b="0" lang="en-US" sz="3200" spc="-1" strike="noStrike">
                <a:solidFill>
                  <a:srgbClr val="e22904"/>
                </a:solidFill>
                <a:latin typeface="Arial"/>
              </a:rPr>
              <a:t> </a:t>
            </a:r>
            <a:r>
              <a:rPr b="0" lang="sr-CS" sz="4000" spc="-1" strike="noStrike">
                <a:solidFill>
                  <a:srgbClr val="e22904"/>
                </a:solidFill>
                <a:latin typeface="Arial"/>
              </a:rPr>
              <a:t>Статистичка неповезаност</a:t>
            </a:r>
            <a:br>
              <a:rPr sz="4000"/>
            </a:br>
            <a:r>
              <a:rPr b="0" lang="en-US" sz="4000" spc="-1" strike="noStrike">
                <a:solidFill>
                  <a:srgbClr val="e22904"/>
                </a:solidFill>
                <a:latin typeface="Arial Cirilica"/>
              </a:rPr>
              <a:t>(</a:t>
            </a:r>
            <a:r>
              <a:rPr b="0" lang="sr-CS" sz="4000" spc="-1" strike="noStrike">
                <a:solidFill>
                  <a:srgbClr val="e22904"/>
                </a:solidFill>
                <a:latin typeface="Arial Cirilica"/>
              </a:rPr>
              <a:t>догађаји статистички негативни</a:t>
            </a:r>
            <a:r>
              <a:rPr b="0" lang="en-US" sz="4000" spc="-1" strike="noStrike">
                <a:solidFill>
                  <a:srgbClr val="e22904"/>
                </a:solidFill>
                <a:latin typeface="Arial Cirilica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24382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Веза међу посматраним појавама није статистички значај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Хипотеза се може одбацит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и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Проверити хипотезу на већем узор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22904"/>
                </a:solidFill>
                <a:latin typeface="Arial Cirilica"/>
              </a:rPr>
              <a:t>B</a:t>
            </a:r>
            <a:r>
              <a:rPr b="0" lang="sr-CS" sz="4000" spc="-1" strike="noStrike">
                <a:solidFill>
                  <a:srgbClr val="e22904"/>
                </a:solidFill>
                <a:latin typeface="Arial"/>
              </a:rPr>
              <a:t>.</a:t>
            </a:r>
            <a:r>
              <a:rPr b="0" lang="sr-CS" sz="3500" spc="-1" strike="noStrike">
                <a:solidFill>
                  <a:srgbClr val="e22904"/>
                </a:solidFill>
                <a:latin typeface="Arial"/>
              </a:rPr>
              <a:t>  </a:t>
            </a:r>
            <a:r>
              <a:rPr b="0" lang="sr-CS" sz="4000" spc="-1" strike="noStrike">
                <a:solidFill>
                  <a:srgbClr val="e22904"/>
                </a:solidFill>
                <a:latin typeface="Arial"/>
              </a:rPr>
              <a:t>Статистичка повезаност</a:t>
            </a:r>
            <a:br>
              <a:rPr sz="4000"/>
            </a:br>
            <a:r>
              <a:rPr b="0" lang="en-US" sz="4000" spc="-1" strike="noStrike">
                <a:solidFill>
                  <a:srgbClr val="e22904"/>
                </a:solidFill>
                <a:latin typeface="Arial"/>
              </a:rPr>
              <a:t>(</a:t>
            </a:r>
            <a:r>
              <a:rPr b="0" lang="sr-CS" sz="4000" spc="-1" strike="noStrike">
                <a:solidFill>
                  <a:srgbClr val="e22904"/>
                </a:solidFill>
                <a:latin typeface="Arial Cirilica"/>
              </a:rPr>
              <a:t>асоцијација</a:t>
            </a:r>
            <a:r>
              <a:rPr b="0" lang="en-US" sz="4000" spc="-1" strike="noStrike">
                <a:solidFill>
                  <a:srgbClr val="e22904"/>
                </a:solidFill>
                <a:latin typeface="Arial Cirilica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Откривање међусобне повезаност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 Cirilica"/>
              </a:rPr>
              <a:t>Н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ем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значаја у оквиру појединачних случаје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 Cirilica"/>
              </a:rPr>
              <a:t>И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ма смисл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у односу на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категориј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догађај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појединачни случајеви чије карактеристике оправдавају заједничку класификацију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нпр</a:t>
            </a: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.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категорија вакцинисаних</a:t>
            </a: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за разлику од</a:t>
            </a: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вакцинисаног појединца</a:t>
            </a: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900" spc="-1" strike="noStrike">
                <a:solidFill>
                  <a:srgbClr val="ffffff"/>
                </a:solidFill>
                <a:latin typeface="Arial"/>
              </a:rPr>
              <a:t>Статистичка повезаност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900" spc="-1" strike="noStrike">
                <a:solidFill>
                  <a:srgbClr val="ffffff"/>
                </a:solidFill>
                <a:latin typeface="Arial Cirilica"/>
              </a:rPr>
              <a:t>(</a:t>
            </a:r>
            <a:r>
              <a:rPr b="0" lang="sr-CS" sz="3900" spc="-1" strike="noStrike">
                <a:solidFill>
                  <a:srgbClr val="ffffff"/>
                </a:solidFill>
                <a:latin typeface="Arial Cirilica"/>
              </a:rPr>
              <a:t>асоцијација</a:t>
            </a:r>
            <a:r>
              <a:rPr b="0" lang="en-US" sz="3900" spc="-1" strike="noStrike">
                <a:solidFill>
                  <a:srgbClr val="ffffff"/>
                </a:solidFill>
                <a:latin typeface="Arial Cirilica"/>
              </a:rPr>
              <a:t>)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-360" y="2209320"/>
            <a:ext cx="8991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Статистички тестов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откривају </a:t>
            </a: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статистичку значајност повезаност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посматраних поја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колико су вакцинација и одсуство болести асоцирани чешће од очекиваног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повезаност је израз одређеног степена вероватноће, не 100% сигурности (не значи да је у питању изрочна асоцијациј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e22904"/>
                </a:solidFill>
                <a:latin typeface="Arial Cirilica"/>
              </a:rPr>
              <a:t>B1.</a:t>
            </a:r>
            <a:r>
              <a:rPr b="0" lang="en-US" sz="3900" spc="-1" strike="noStrike">
                <a:solidFill>
                  <a:srgbClr val="e22904"/>
                </a:solidFill>
                <a:latin typeface="Arial"/>
              </a:rPr>
              <a:t> </a:t>
            </a:r>
            <a:r>
              <a:rPr b="0" lang="sr-CS" sz="3900" spc="-1" strike="noStrike">
                <a:solidFill>
                  <a:srgbClr val="e22904"/>
                </a:solidFill>
                <a:latin typeface="Arial"/>
              </a:rPr>
              <a:t>НЕузрочна</a:t>
            </a:r>
            <a:r>
              <a:rPr b="0" lang="en-US" sz="3900" spc="-1" strike="noStrike">
                <a:solidFill>
                  <a:srgbClr val="e22904"/>
                </a:solidFill>
                <a:latin typeface="Arial"/>
              </a:rPr>
              <a:t> </a:t>
            </a:r>
            <a:r>
              <a:rPr b="0" lang="sr-CS" sz="3900" spc="-1" strike="noStrike">
                <a:solidFill>
                  <a:srgbClr val="e22904"/>
                </a:solidFill>
                <a:latin typeface="Arial Cirilica"/>
              </a:rPr>
              <a:t>статистичка</a:t>
            </a:r>
            <a:r>
              <a:rPr b="0" lang="sr-CS" sz="3900" spc="-1" strike="noStrike">
                <a:solidFill>
                  <a:srgbClr val="e22904"/>
                </a:solidFill>
                <a:latin typeface="Arial"/>
              </a:rPr>
              <a:t> повезаност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520" y="266688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Статистичка повезаност међу догађајим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НЕ значи да је веза узроч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M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оже би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лаж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секундар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ffffff"/>
                </a:solidFill>
                <a:latin typeface="Arial"/>
              </a:rPr>
              <a:t>НЕузрочна </a:t>
            </a:r>
            <a:r>
              <a:rPr b="1" lang="sr-CS" sz="3500" spc="-1" strike="noStrike">
                <a:solidFill>
                  <a:srgbClr val="ffffff"/>
                </a:solidFill>
                <a:latin typeface="Arial Cirilica"/>
              </a:rPr>
              <a:t>статистичка</a:t>
            </a: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500" spc="-1" strike="noStrike">
                <a:solidFill>
                  <a:srgbClr val="ffffff"/>
                </a:solidFill>
                <a:latin typeface="Arial"/>
              </a:rPr>
              <a:t>повезаност</a:t>
            </a: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sr-CS" sz="3500" spc="-1" strike="noStrike">
                <a:solidFill>
                  <a:srgbClr val="e22904"/>
                </a:solidFill>
                <a:latin typeface="Arial Cirilica"/>
              </a:rPr>
              <a:t>Лажна повезаност ?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8991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Запажена веза је последиц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Случајне грешке (насумичн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Систематске грешке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(проверити и одредити њен допринос у сваком испитивању узрочне повезаност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неуједначени критеријуми при </a:t>
            </a:r>
            <a:r>
              <a:rPr b="0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избору испитаник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(селективна грешк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грешка у </a:t>
            </a:r>
            <a:r>
              <a:rPr b="0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прикупљању податак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(грешке мерења: ускраћивање тачних одговора и грешка сећањ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НЕузрочна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 Cirilica"/>
              </a:rPr>
              <a:t>статистичка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 повезаност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sr-CS" sz="3200" spc="-1" strike="noStrike">
                <a:solidFill>
                  <a:srgbClr val="e22904"/>
                </a:solidFill>
                <a:latin typeface="Arial Cirilica"/>
              </a:rPr>
              <a:t>Секундарна повезанос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Велики број статистичких асоцијација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НЕ</a:t>
            </a: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испуњава захтев да </a:t>
            </a:r>
            <a:r>
              <a:rPr b="0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промена у једној појави мења друг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Најчешће су изложеност и болест п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везани са неком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варијаблом (конфаундинг фактором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Ова врста асоцираности је чес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99840" y="457200"/>
            <a:ext cx="7162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22904"/>
                </a:solidFill>
                <a:latin typeface="Arial Cirilica"/>
              </a:rPr>
              <a:t>B2. </a:t>
            </a:r>
            <a:r>
              <a:rPr b="0" lang="sr-CS" sz="3500" spc="-1" strike="noStrike">
                <a:solidFill>
                  <a:srgbClr val="e22904"/>
                </a:solidFill>
                <a:latin typeface="Arial"/>
              </a:rPr>
              <a:t>Узрочна </a:t>
            </a:r>
            <a:r>
              <a:rPr b="0" lang="en-US" sz="3500" spc="-1" strike="noStrike">
                <a:solidFill>
                  <a:srgbClr val="e22904"/>
                </a:solidFill>
                <a:latin typeface="Arial Cirilica"/>
              </a:rPr>
              <a:t>(</a:t>
            </a:r>
            <a:r>
              <a:rPr b="0" lang="sr-CS" sz="3500" spc="-1" strike="noStrike">
                <a:solidFill>
                  <a:srgbClr val="e22904"/>
                </a:solidFill>
                <a:latin typeface="Arial Cirilica"/>
              </a:rPr>
              <a:t>КАУЗАЛНА</a:t>
            </a:r>
            <a:r>
              <a:rPr b="0" lang="en-US" sz="3500" spc="-1" strike="noStrike">
                <a:solidFill>
                  <a:srgbClr val="e22904"/>
                </a:solidFill>
                <a:latin typeface="Arial Cirilica"/>
              </a:rPr>
              <a:t>) </a:t>
            </a:r>
            <a:r>
              <a:rPr b="0" lang="sr-CS" sz="3500" spc="-1" strike="noStrike">
                <a:solidFill>
                  <a:srgbClr val="e22904"/>
                </a:solidFill>
                <a:latin typeface="Arial Cirilica"/>
              </a:rPr>
              <a:t>статистичка</a:t>
            </a:r>
            <a:r>
              <a:rPr b="0" lang="en-US" sz="3500" spc="-1" strike="noStrike">
                <a:solidFill>
                  <a:srgbClr val="e22904"/>
                </a:solidFill>
                <a:latin typeface="Arial"/>
              </a:rPr>
              <a:t> </a:t>
            </a:r>
            <a:r>
              <a:rPr b="0" lang="sr-CS" sz="3500" spc="-1" strike="noStrike">
                <a:solidFill>
                  <a:srgbClr val="e22904"/>
                </a:solidFill>
                <a:latin typeface="Arial"/>
              </a:rPr>
              <a:t>повезаност</a:t>
            </a:r>
            <a:r>
              <a:rPr b="0" lang="en-US" sz="3500" spc="-1" strike="noStrike">
                <a:solidFill>
                  <a:srgbClr val="e22904"/>
                </a:solidFill>
                <a:latin typeface="Arial"/>
              </a:rPr>
              <a:t> </a:t>
            </a:r>
            <a:r>
              <a:rPr b="0" lang="sr-CS" sz="3500" spc="-1" strike="noStrike">
                <a:solidFill>
                  <a:srgbClr val="e22904"/>
                </a:solidFill>
                <a:latin typeface="Arial"/>
              </a:rPr>
              <a:t>(асоцијација)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-360" y="2285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Дефиниција: промена у једној појави мења друг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Статистичка повезаност међу посматраним догађајима не значи да је асоцијација узроч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Мањи део статистичке повезаности је каузалан у складу са данашњом дефинициј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7560" y="6858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Закључивање о каузалности на основу епидемиолошких податак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520" y="2361960"/>
            <a:ext cx="86108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Cirilica"/>
              </a:rPr>
              <a:t>    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Ако</a:t>
            </a: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 je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у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студији ИСКЊУЧЕН утицај </a:t>
            </a:r>
            <a:r>
              <a:rPr b="0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случајн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систематск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грешке као и </a:t>
            </a:r>
            <a:r>
              <a:rPr b="0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конфаундинг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фактора закључујемо д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Постој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сигурна статистичка асоцијациј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међу посматр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ним догађајима, а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 Cirilica"/>
              </a:rPr>
              <a:t>Не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 знач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да је асоцијација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узроч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701064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500" spc="-1" strike="noStrike">
                <a:solidFill>
                  <a:srgbClr val="ffffff"/>
                </a:solidFill>
                <a:latin typeface="Arial"/>
              </a:rPr>
              <a:t>Епидемиологија </a:t>
            </a:r>
            <a:r>
              <a:rPr b="0" lang="en-US" sz="3500" spc="-1" strike="noStrike">
                <a:solidFill>
                  <a:srgbClr val="ffffff"/>
                </a:solidFill>
                <a:latin typeface="Arial Cirilica"/>
              </a:rPr>
              <a:t>je</a:t>
            </a:r>
            <a:r>
              <a:rPr b="0" lang="sr-CS" sz="3500" spc="-1" strike="noStrike">
                <a:solidFill>
                  <a:srgbClr val="ffffff"/>
                </a:solidFill>
                <a:latin typeface="Arial Cirilica"/>
              </a:rPr>
              <a:t> наука о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2361960"/>
            <a:ext cx="83055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Дистрибуциј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(распрострањености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и учесталости поремећаја здрављ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Детерминантама, узроцима поремећаја здравља (факторима који их условљавају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Спречавању и сузбијању поремећаја здрављ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Два начина провере каузалности статистичких асоцијаци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нтролисани експеримен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ритеријуми који подржавају каузалну природу асоцијациј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7086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Критеријуми који подржавају каузалну природу асоцијације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sr-CS" sz="2800" spc="-1" strike="noStrike">
                <a:solidFill>
                  <a:srgbClr val="ffffff"/>
                </a:solidFill>
                <a:latin typeface="Arial Cirilica"/>
              </a:rPr>
              <a:t>које користимо у процени каузалне повезаности</a:t>
            </a:r>
            <a:r>
              <a:rPr b="1" lang="en-US" sz="2800" spc="-1" strike="noStrike">
                <a:solidFill>
                  <a:srgbClr val="ffffff"/>
                </a:solidFill>
                <a:latin typeface="Arial Cirilic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22904"/>
                </a:solidFill>
                <a:latin typeface="Arial"/>
              </a:rPr>
              <a:t>Временски редосле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22904"/>
                </a:solidFill>
                <a:latin typeface="Arial"/>
              </a:rPr>
              <a:t>Чврстина повеза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22904"/>
                </a:solidFill>
                <a:latin typeface="Arial"/>
              </a:rPr>
              <a:t>Постојаност повеза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22904"/>
                </a:solidFill>
                <a:latin typeface="Arial"/>
              </a:rPr>
              <a:t>Слагање са постојећим познавањем боле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22904"/>
                </a:solidFill>
                <a:latin typeface="Arial"/>
              </a:rPr>
              <a:t>Слагање између дозе и ефек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22904"/>
                </a:solidFill>
                <a:latin typeface="Arial"/>
              </a:rPr>
              <a:t>Специфичност међусобне повеза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2290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520" y="456840"/>
            <a:ext cx="7238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Критеријум који подржава каузалну природу асоцијације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sr-CS" sz="2800" spc="-1" strike="noStrike" u="sng">
                <a:solidFill>
                  <a:srgbClr val="e22904"/>
                </a:solidFill>
                <a:uFillTx/>
                <a:latin typeface="Arial Cirilica"/>
              </a:rPr>
              <a:t>ВРЕМЕНСКИ РЕДОСЛЕД</a:t>
            </a:r>
            <a:r>
              <a:rPr b="1" lang="en-US" sz="2800" spc="-1" strike="noStrike" u="sng">
                <a:solidFill>
                  <a:srgbClr val="e22904"/>
                </a:solidFill>
                <a:uFillTx/>
                <a:latin typeface="Arial Cirilica"/>
              </a:rPr>
              <a:t> </a:t>
            </a:r>
            <a:r>
              <a:rPr b="1" lang="sr-CS" sz="2800" spc="-1" strike="noStrike" u="sng">
                <a:solidFill>
                  <a:srgbClr val="e22904"/>
                </a:solidFill>
                <a:uFillTx/>
                <a:latin typeface="Arial Cirilica"/>
              </a:rPr>
              <a:t>(хронологија)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де у прилог узрочне повеза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 Cirilica"/>
              </a:rPr>
              <a:t>Д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огађаји узрочно повезани само када временски следе један за други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У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колико се јављају </a:t>
            </a:r>
            <a:r>
              <a:rPr b="0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истовремено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или у </a:t>
            </a:r>
            <a:r>
              <a:rPr b="0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различитим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временским односима (различито претходе један другом)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 Cirilica"/>
              </a:rPr>
              <a:t>Н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могу се сматрати каузални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Критеријум који подржава каузалну природу асоцијације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sr-CS" sz="2800" spc="-1" strike="noStrike" u="sng">
                <a:solidFill>
                  <a:srgbClr val="e22904"/>
                </a:solidFill>
                <a:uFillTx/>
                <a:latin typeface="Arial Cirilica"/>
              </a:rPr>
              <a:t>Временски редослед</a:t>
            </a:r>
            <a:r>
              <a:rPr b="1" lang="en-US" sz="2800" spc="-1" strike="noStrike" u="sng">
                <a:solidFill>
                  <a:srgbClr val="e22904"/>
                </a:solidFill>
                <a:uFillTx/>
                <a:latin typeface="Arial Cirilica"/>
              </a:rPr>
              <a:t> </a:t>
            </a:r>
            <a:r>
              <a:rPr b="1" lang="sr-CS" sz="2800" spc="-1" strike="noStrike" u="sng">
                <a:solidFill>
                  <a:srgbClr val="e22904"/>
                </a:solidFill>
                <a:uFillTx/>
                <a:latin typeface="Arial Cirilica"/>
              </a:rPr>
              <a:t>(хронологиј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23623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Акутне заразне болест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(временски след очигледан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Хроничне болест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(са дугим латентним периодом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609120"/>
            <a:ext cx="70102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Критеријум који подржава каузалну природу асоцијације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sr-CS" sz="2800" spc="-1" strike="noStrike" u="sng">
                <a:solidFill>
                  <a:srgbClr val="e22904"/>
                </a:solidFill>
                <a:uFillTx/>
                <a:latin typeface="Arial Cirilica"/>
              </a:rPr>
              <a:t>ЧВРСТИНА ПОВЕЗА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520" y="22093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Однос стопе оболевања у изложених и неизложених (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sr-Latn-C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/I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ē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) неком хипотетичком узрок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Уколико је однос већи, већа је и вероватноћа да је веза кузал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Критеријум који подржава каузалну природу асоцијације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sr-CS" sz="2800" spc="-1" strike="noStrike" u="sng">
                <a:solidFill>
                  <a:srgbClr val="e22904"/>
                </a:solidFill>
                <a:uFillTx/>
                <a:latin typeface="Arial Cirilica"/>
              </a:rPr>
              <a:t>ПОСТОЈАНОСТ ПОВЕЗА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Асоцијациј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откривена у </a:t>
            </a:r>
            <a:r>
              <a:rPr b="0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једно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ј студији појављује се </a:t>
            </a:r>
            <a:r>
              <a:rPr b="0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и у каснијим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испитивањима под другим околностима, у различитим популационим групама или уз помоћ других методолошких приступ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Критеријум који подржав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каузалну природу асоцијације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sr-CS" sz="2800" spc="-1" strike="noStrike" u="sng">
                <a:solidFill>
                  <a:srgbClr val="e22904"/>
                </a:solidFill>
                <a:uFillTx/>
                <a:latin typeface="Arial Cirilica"/>
              </a:rPr>
              <a:t>СЛАГАЊЕ СА</a:t>
            </a:r>
            <a:r>
              <a:rPr b="1" lang="sr-CS" sz="2800" spc="-1" strike="noStrike" u="sng">
                <a:solidFill>
                  <a:srgbClr val="e22904"/>
                </a:solidFill>
                <a:uFillTx/>
                <a:latin typeface="Arial"/>
              </a:rPr>
              <a:t> ПОСТОЈЕЋИМ ПОЗНАВАЊЕМ БОЛЕ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23619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 Cirilica"/>
              </a:rPr>
              <a:t>У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зрочна интерпретација прихватљива у односу на степен познавања каузалних фактора и боле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 Cirilica"/>
              </a:rPr>
              <a:t>У коликоп се </a:t>
            </a:r>
            <a:r>
              <a:rPr b="0" lang="sr-CS" sz="2400" spc="-1" strike="noStrike" u="sng">
                <a:solidFill>
                  <a:srgbClr val="ffffff"/>
                </a:solidFill>
                <a:uFillTx/>
                <a:latin typeface="Arial Cirilica"/>
              </a:rPr>
              <a:t>п</a:t>
            </a:r>
            <a:r>
              <a:rPr b="0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ретпостављено објашњењ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НЕ слаже са </a:t>
            </a:r>
            <a:r>
              <a:rPr b="0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постојећим нивоом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знањ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треба да се испи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Критеријум који подржава каузалну природу асоцијације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sr-CS" sz="2800" spc="-1" strike="noStrike" u="sng">
                <a:solidFill>
                  <a:srgbClr val="e22904"/>
                </a:solidFill>
                <a:uFillTx/>
                <a:latin typeface="Arial"/>
              </a:rPr>
              <a:t>Слагање између дозе и ефек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Степен изложености расте (Е)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→ инциденција раст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6858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Критеријум који подржава каузалну природу асоцијације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sr-CS" sz="2800" spc="-1" strike="noStrike" u="sng">
                <a:solidFill>
                  <a:srgbClr val="e22904"/>
                </a:solidFill>
                <a:uFillTx/>
                <a:latin typeface="Arial"/>
              </a:rPr>
              <a:t>СПЕЦИФИЧНОСТ МЕЂУСОБНЕ ПОВЕЗА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6104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 Cirilica"/>
              </a:rPr>
              <a:t>Показује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 Cirilica"/>
              </a:rPr>
              <a:t>до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 које мере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 узрочни фактори одређују настанак болести (специфичност је комплетна ако је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једна болест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 последица само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једног узрока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1. Један узрок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више боле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болест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УЗР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болест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599840" y="68580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У процени каузалне повезаности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 Cirilica"/>
              </a:rPr>
              <a:t>критеријум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 u="sng">
                <a:solidFill>
                  <a:srgbClr val="e22904"/>
                </a:solidFill>
                <a:uFillTx/>
                <a:latin typeface="Arial"/>
              </a:rPr>
              <a:t>специфичност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 мање задовољава </a:t>
            </a:r>
            <a:r>
              <a:rPr b="1" lang="sr-CS" sz="2800" spc="-1" strike="noStrike">
                <a:solidFill>
                  <a:srgbClr val="ffffff"/>
                </a:solidFill>
                <a:latin typeface="Arial Cirilica"/>
              </a:rPr>
              <a:t>од осталих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из два разлог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3276720" y="3048120"/>
            <a:ext cx="53316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76720" y="3429000"/>
            <a:ext cx="53316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52280" y="236196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 део дефинициј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односи се н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истраживања којима откривамо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учесталост поремећаја здрављ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дистрибуцију поремећаја здрављ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која популација је захваће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у ком мести се јавља болес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да ли постоји правилност у јављању боле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676160" y="6858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100" spc="-1" strike="noStrike">
                <a:solidFill>
                  <a:srgbClr val="ffffff"/>
                </a:solidFill>
                <a:latin typeface="Arial"/>
              </a:rPr>
              <a:t>Дефиниција епидемиологије обухвата два подручја истраживања: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100"/>
            </a:b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У процени каузалне повезаности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 Cirilica"/>
              </a:rPr>
              <a:t>критеријум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 u="sng">
                <a:solidFill>
                  <a:srgbClr val="e22904"/>
                </a:solidFill>
                <a:uFillTx/>
                <a:latin typeface="Arial"/>
              </a:rPr>
              <a:t>специфичност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 мање задовољава </a:t>
            </a:r>
            <a:r>
              <a:rPr b="1" lang="sr-CS" sz="2800" spc="-1" strike="noStrike">
                <a:solidFill>
                  <a:srgbClr val="ffffff"/>
                </a:solidFill>
                <a:latin typeface="Arial Cirilica"/>
              </a:rPr>
              <a:t>од осталих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из два разлог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Cirilic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 Cirilica"/>
              </a:rPr>
              <a:t>.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Мултикаузална природа обоњеља</a:t>
            </a:r>
            <a:r>
              <a:rPr b="0" lang="en-US" sz="2000" spc="-1" strike="noStrike">
                <a:solidFill>
                  <a:srgbClr val="ffffff"/>
                </a:solidFill>
                <a:latin typeface="Arial Cirilic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 Cirilica"/>
              </a:rPr>
              <a:t>Узрок </a:t>
            </a:r>
            <a:r>
              <a:rPr b="0" lang="en-US" sz="2000" spc="-1" strike="noStrike">
                <a:solidFill>
                  <a:srgbClr val="ffffff"/>
                </a:solidFill>
                <a:latin typeface="Arial Cirilic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 Cirilica"/>
              </a:rPr>
              <a:t>Узрок</a:t>
            </a:r>
            <a:r>
              <a:rPr b="0" lang="en-US" sz="2000" spc="-1" strike="noStrike">
                <a:solidFill>
                  <a:srgbClr val="ffffff"/>
                </a:solidFill>
                <a:latin typeface="Arial Cirilica"/>
              </a:rPr>
              <a:t> 2              </a:t>
            </a:r>
            <a:r>
              <a:rPr b="0" lang="sr-CS" sz="2000" spc="-1" strike="noStrike">
                <a:solidFill>
                  <a:srgbClr val="ffffff"/>
                </a:solidFill>
                <a:latin typeface="Arial Cirilica"/>
              </a:rPr>
              <a:t>болест</a:t>
            </a:r>
            <a:r>
              <a:rPr b="0" lang="en-US" sz="2000" spc="-1" strike="noStrike">
                <a:solidFill>
                  <a:srgbClr val="ffffff"/>
                </a:solidFill>
                <a:latin typeface="Arial Cirilica"/>
              </a:rPr>
              <a:t>         </a:t>
            </a:r>
            <a:r>
              <a:rPr b="0" lang="sr-CS" sz="2000" spc="-1" strike="noStrike">
                <a:solidFill>
                  <a:srgbClr val="ffffff"/>
                </a:solidFill>
                <a:latin typeface="Arial Cirilica"/>
              </a:rPr>
              <a:t>алтернативни каузални фактор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 Cirilica"/>
              </a:rPr>
              <a:t>Узрок</a:t>
            </a:r>
            <a:r>
              <a:rPr b="0" lang="en-US" sz="2000" spc="-1" strike="noStrike">
                <a:solidFill>
                  <a:srgbClr val="ffffff"/>
                </a:solidFill>
                <a:latin typeface="Arial Cirilica"/>
              </a:rPr>
              <a:t>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 Cirilica"/>
              </a:rPr>
              <a:t>Узрок </a:t>
            </a:r>
            <a:r>
              <a:rPr b="0" lang="en-US" sz="2000" spc="-1" strike="noStrike">
                <a:solidFill>
                  <a:srgbClr val="ffffff"/>
                </a:solidFill>
                <a:latin typeface="Arial Cirilic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 Cirilica"/>
              </a:rPr>
              <a:t>Узрок</a:t>
            </a:r>
            <a:r>
              <a:rPr b="0" lang="en-US" sz="2000" spc="-1" strike="noStrike">
                <a:solidFill>
                  <a:srgbClr val="ffffff"/>
                </a:solidFill>
                <a:latin typeface="Arial Cirilica"/>
              </a:rPr>
              <a:t> 2               </a:t>
            </a:r>
            <a:r>
              <a:rPr b="0" lang="sr-CS" sz="2000" spc="-1" strike="noStrike">
                <a:solidFill>
                  <a:srgbClr val="ffffff"/>
                </a:solidFill>
                <a:latin typeface="Arial Cirilica"/>
              </a:rPr>
              <a:t>болест</a:t>
            </a:r>
            <a:r>
              <a:rPr b="0" lang="en-US" sz="2000" spc="-1" strike="noStrike">
                <a:solidFill>
                  <a:srgbClr val="ffffff"/>
                </a:solidFill>
                <a:latin typeface="Arial Cirilica"/>
              </a:rPr>
              <a:t>         </a:t>
            </a:r>
            <a:r>
              <a:rPr b="0" lang="sr-CS" sz="2000" spc="-1" strike="noStrike">
                <a:solidFill>
                  <a:srgbClr val="ffffff"/>
                </a:solidFill>
                <a:latin typeface="Arial Cirilica"/>
              </a:rPr>
              <a:t>кумулативно дејство каузалних факто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 Cirilica"/>
              </a:rPr>
              <a:t>Узрок</a:t>
            </a:r>
            <a:r>
              <a:rPr b="0" lang="en-US" sz="2000" spc="-1" strike="noStrike">
                <a:solidFill>
                  <a:srgbClr val="ffffff"/>
                </a:solidFill>
                <a:latin typeface="Arial Cirilica"/>
              </a:rPr>
              <a:t> 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sr-CS" sz="1300" spc="-1" strike="noStrike">
                <a:solidFill>
                  <a:srgbClr val="ffffff"/>
                </a:solidFill>
                <a:latin typeface="Arial Cirilica"/>
              </a:rPr>
              <a:t>ни један</a:t>
            </a:r>
            <a:r>
              <a:rPr b="0" lang="en-US" sz="1300" spc="-1" strike="noStrike">
                <a:solidFill>
                  <a:srgbClr val="ffffff"/>
                </a:solidFill>
                <a:latin typeface="Arial Cirilica"/>
              </a:rPr>
              <a:t> </a:t>
            </a:r>
            <a:r>
              <a:rPr b="0" lang="sr-CS" sz="1300" spc="-1" strike="noStrike">
                <a:solidFill>
                  <a:srgbClr val="ffffff"/>
                </a:solidFill>
                <a:latin typeface="Arial Cirilica"/>
              </a:rPr>
              <a:t>од узр</a:t>
            </a:r>
            <a:r>
              <a:rPr b="0" lang="en-US" sz="1300" spc="-1" strike="noStrike">
                <a:solidFill>
                  <a:srgbClr val="ffffff"/>
                </a:solidFill>
                <a:latin typeface="Arial Cirilica"/>
              </a:rPr>
              <a:t>. </a:t>
            </a:r>
            <a:r>
              <a:rPr b="0" lang="sr-CS" sz="1300" spc="-1" strike="noStrike">
                <a:solidFill>
                  <a:srgbClr val="ffffff"/>
                </a:solidFill>
                <a:latin typeface="Arial Cirilica"/>
              </a:rPr>
              <a:t>Ф</a:t>
            </a:r>
            <a:r>
              <a:rPr b="0" lang="en-US" sz="1300" spc="-1" strike="noStrike">
                <a:solidFill>
                  <a:srgbClr val="ffffff"/>
                </a:solidFill>
                <a:latin typeface="Arial Cirilica"/>
              </a:rPr>
              <a:t>. </a:t>
            </a:r>
            <a:r>
              <a:rPr b="0" lang="sr-CS" sz="1300" spc="-1" strike="noStrike">
                <a:solidFill>
                  <a:srgbClr val="ffffff"/>
                </a:solidFill>
                <a:latin typeface="Arial Cirilica"/>
              </a:rPr>
              <a:t>сам за себе</a:t>
            </a:r>
            <a:r>
              <a:rPr b="0" lang="en-US" sz="1300" spc="-1" strike="noStrike">
                <a:solidFill>
                  <a:srgbClr val="ffffff"/>
                </a:solidFill>
                <a:latin typeface="Arial Cirilica"/>
              </a:rPr>
              <a:t> </a:t>
            </a:r>
            <a:r>
              <a:rPr b="0" lang="sr-CS" sz="1300" spc="-1" strike="noStrike">
                <a:solidFill>
                  <a:srgbClr val="ffffff"/>
                </a:solidFill>
                <a:latin typeface="Arial Cirilica"/>
              </a:rPr>
              <a:t>није довољан</a:t>
            </a:r>
            <a:r>
              <a:rPr b="0" lang="en-US" sz="1300" spc="-1" strike="noStrike">
                <a:solidFill>
                  <a:srgbClr val="ffffff"/>
                </a:solidFill>
                <a:latin typeface="Arial Cirilica"/>
              </a:rPr>
              <a:t> </a:t>
            </a:r>
            <a:r>
              <a:rPr b="0" lang="sr-CS" sz="1300" spc="-1" strike="noStrike">
                <a:solidFill>
                  <a:srgbClr val="ffffff"/>
                </a:solidFill>
                <a:latin typeface="Arial Cirilica"/>
              </a:rPr>
              <a:t>да проузрокује болест</a:t>
            </a:r>
            <a:r>
              <a:rPr b="0" lang="en-US" sz="1300" spc="-1" strike="noStrike">
                <a:solidFill>
                  <a:srgbClr val="ffffff"/>
                </a:solidFill>
                <a:latin typeface="Arial Cirilica"/>
              </a:rPr>
              <a:t>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066680" y="3200400"/>
            <a:ext cx="60984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066680" y="35053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143000" y="3580920"/>
            <a:ext cx="53352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295280" y="4724280"/>
            <a:ext cx="228600" cy="914400"/>
          </a:xfrm>
          <a:custGeom>
            <a:avLst/>
            <a:gdLst>
              <a:gd name="textAreaLeft" fmla="*/ 0 w 228600"/>
              <a:gd name="textAreaRight" fmla="*/ 8244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76320" y="2438280"/>
            <a:ext cx="89913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4800" spc="-1" strike="noStrike">
                <a:solidFill>
                  <a:srgbClr val="ffffff"/>
                </a:solidFill>
                <a:latin typeface="Arial"/>
              </a:rPr>
              <a:t>ПОЈАМ ДОВОЉНОГ и НЕОПХОДНОГ УЗРОК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9144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ffff00"/>
                </a:solidFill>
                <a:latin typeface="Arial"/>
              </a:rPr>
              <a:t>Појам довољног и неопходног узрока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740960" y="2678040"/>
            <a:ext cx="6750360" cy="30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Значај једног </a:t>
            </a:r>
            <a:r>
              <a:rPr b="1" lang="sr-CS" sz="2800" spc="-1" strike="noStrike">
                <a:solidFill>
                  <a:srgbClr val="ffffff"/>
                </a:solidFill>
                <a:latin typeface="Arial Cirilica"/>
              </a:rPr>
              <a:t>узр</a:t>
            </a:r>
            <a:r>
              <a:rPr b="1" lang="en-US" sz="2800" spc="-1" strike="noStrike">
                <a:solidFill>
                  <a:srgbClr val="ffffff"/>
                </a:solidFill>
                <a:latin typeface="Arial Cirilica"/>
              </a:rPr>
              <a:t>o</a:t>
            </a:r>
            <a:r>
              <a:rPr b="1" lang="sr-CS" sz="2800" spc="-1" strike="noStrike">
                <a:solidFill>
                  <a:srgbClr val="ffffff"/>
                </a:solidFill>
                <a:latin typeface="Arial Cirilica"/>
              </a:rPr>
              <a:t>к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→ настанак боле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  <a:ea typeface="Arial"/>
              </a:rPr>
              <a:t>П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роцват бектериологије у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XIX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 веку и упознавање етиологије заразних боле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ffff00"/>
                </a:solidFill>
                <a:latin typeface="Arial"/>
              </a:rPr>
              <a:t>Појам довољног и неопходног узрока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Шта је са бројним другим факторима везаним за човека и средину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*) ТБ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  <a:ea typeface="Arial"/>
              </a:rPr>
              <a:t>M. Tubercul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- пол, узраст, генетска конституција, ухрањеност, социо-економски услов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)</a:t>
            </a: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Сифили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   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ponema pallid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услови које</a:t>
            </a: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обезбеђују</a:t>
            </a: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човек и сред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ffff00"/>
                </a:solidFill>
                <a:latin typeface="Arial"/>
              </a:rPr>
              <a:t>Довољан узрок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871280" y="2470320"/>
            <a:ext cx="6296040" cy="30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Многобројн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 фактори чине компоненте довољног узорка али су </a:t>
            </a:r>
            <a:r>
              <a:rPr b="0" lang="sr-C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сам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н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довољни да узрокују оштећење здрављ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7543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ffff00"/>
                </a:solidFill>
                <a:latin typeface="Arial"/>
              </a:rPr>
              <a:t>НЕОПХОДАН (нужан) узрок-агенс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Компонента довољног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узрока која је неопходан услов за настанак боле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Фактор без кога нема обољењ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*) инфективни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агенс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) физички, хемијски и механички агенс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195280" y="663120"/>
            <a:ext cx="52578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500" spc="-1" strike="noStrike">
                <a:solidFill>
                  <a:srgbClr val="ffff00"/>
                </a:solidFill>
                <a:latin typeface="Arial"/>
              </a:rPr>
              <a:t>НЕОПХОДАН узрок заразних болести?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871640" y="2817720"/>
            <a:ext cx="623088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Биолошки инфективни аген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*) Вирусни хепатитис Б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*) Туберкуло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*) Мале богињ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ffff00"/>
                </a:solidFill>
                <a:latin typeface="Arial"/>
              </a:rPr>
              <a:t>Неопходан (нужан) узрок - агенс за </a:t>
            </a:r>
            <a:r>
              <a:rPr b="0" lang="sr-CS" sz="3500" spc="-1" strike="noStrike">
                <a:solidFill>
                  <a:srgbClr val="ffff00"/>
                </a:solidFill>
                <a:latin typeface="Arial"/>
              </a:rPr>
              <a:t>већину хроничних незаразних болести ?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Фактор без кога нема обољењ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*)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Познавање неопходних чинилаца оскудно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за већину хроничних незаразних болест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малигне боле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кардиоваскуларн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ендемска нефропати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дијабете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670536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ffff00"/>
                </a:solidFill>
                <a:latin typeface="Arial"/>
              </a:rPr>
              <a:t>ПОМАЖУЋИ ФАКТОРИ или ФАКТОРИ РИЗИКА?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0769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Откривени су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епидемиолошким студијама и даље се откривај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В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езани за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карактеристике домаћин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средин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Д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оприносе појав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болести</a:t>
            </a: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 (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малигни тумори</a:t>
            </a: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нека</a:t>
            </a: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КВО</a:t>
            </a: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ендемска нефропатија</a:t>
            </a: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дијабетес</a:t>
            </a: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900" spc="-1" strike="noStrike">
                <a:solidFill>
                  <a:srgbClr val="ffff00"/>
                </a:solidFill>
                <a:latin typeface="Arial"/>
              </a:rPr>
              <a:t>Помажући фактори или фактори ризика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До данас</a:t>
            </a: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идентификоване бројне</a:t>
            </a: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узрочне</a:t>
            </a: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 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компоненте</a:t>
            </a: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разних облика канце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Теже да откријемо</a:t>
            </a: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 </a:t>
            </a:r>
            <a:r>
              <a:rPr b="0" lang="sr-CS" sz="2800" spc="-1" strike="noStrike" u="sng">
                <a:solidFill>
                  <a:srgbClr val="ffffff"/>
                </a:solidFill>
                <a:uFillTx/>
                <a:latin typeface="Arial Cirilica"/>
              </a:rPr>
              <a:t>каузалне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 механизме</a:t>
            </a: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који ће имати карактер</a:t>
            </a: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неопходног узрока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Г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овримо о </a:t>
            </a:r>
            <a:r>
              <a:rPr b="0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факторима ризик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који заједно чине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довољан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узр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51920" y="2362320"/>
            <a:ext cx="899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I</a:t>
            </a:r>
            <a:r>
              <a:rPr b="1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 део дефинициј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односи се на етиологију болести и етиолошка истраживањ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Каузалне везе се проверавају ОПСЕРВАЦИЈОМ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e22904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Експеримент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у епидемиологиј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e22904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Аналитички мет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1676160" y="76212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ffffff"/>
                </a:solidFill>
                <a:latin typeface="Arial"/>
              </a:rPr>
              <a:t>Дефиниција епидемиологије обухвата два подручја истраживања:</a:t>
            </a:r>
            <a:r>
              <a:rPr b="0" lang="sr-CS" sz="35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500"/>
            </a:b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99840" y="5335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Како процењујемо да су појаве удружене (да су у корелацији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-360" y="243792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1.Сматрамо да је фактор у вези са обољењем али статистички </a:t>
            </a:r>
            <a:r>
              <a:rPr b="1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нема корелаци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j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sr-CS" sz="2400" spc="-1" strike="noStrike" u="sng">
                <a:solidFill>
                  <a:srgbClr val="ffffff"/>
                </a:solidFill>
                <a:uFillTx/>
                <a:latin typeface="Arial Cirilica"/>
              </a:rPr>
              <a:t>нема статистичке значајности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 Cirilic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22904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Грешка у методолошком приступ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22904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Мали узора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Ако постоје индиције да треба тражити узрочно-последичне вез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оновити истраживањ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овећати узора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520" y="307440"/>
            <a:ext cx="762012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Како процењујемо да су појаве удружене (да су у корелацији)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915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Arial Cirilica"/>
              </a:rPr>
              <a:t>Фактор у вези са</a:t>
            </a:r>
            <a:r>
              <a:rPr b="0" lang="en-US" sz="2200" spc="-1" strike="noStrike">
                <a:solidFill>
                  <a:srgbClr val="ffffff"/>
                </a:solidFill>
                <a:latin typeface="Arial Cirilica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Arial Cirilica"/>
              </a:rPr>
              <a:t>обољењем и</a:t>
            </a:r>
            <a:r>
              <a:rPr b="0" lang="en-US" sz="2200" spc="-1" strike="noStrike">
                <a:solidFill>
                  <a:srgbClr val="ffffff"/>
                </a:solidFill>
                <a:latin typeface="Arial Cirilica"/>
              </a:rPr>
              <a:t> </a:t>
            </a:r>
            <a:r>
              <a:rPr b="1" lang="sr-CS" sz="2200" spc="-1" strike="noStrike" u="sng">
                <a:solidFill>
                  <a:srgbClr val="ffffff"/>
                </a:solidFill>
                <a:uFillTx/>
                <a:latin typeface="Arial Cirilica"/>
              </a:rPr>
              <a:t>статистички</a:t>
            </a:r>
            <a:r>
              <a:rPr b="1" lang="sr-CS" sz="2200" spc="-1" strike="noStrike" u="sng">
                <a:solidFill>
                  <a:srgbClr val="ffffff"/>
                </a:solidFill>
                <a:uFillTx/>
                <a:latin typeface="Arial"/>
              </a:rPr>
              <a:t> значајна веза доказан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22904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 u="sng">
                <a:solidFill>
                  <a:srgbClr val="ffffff"/>
                </a:solidFill>
                <a:uFillTx/>
                <a:latin typeface="Arial"/>
              </a:rPr>
              <a:t>Не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значи да су појаве у </a:t>
            </a:r>
            <a:r>
              <a:rPr b="1" lang="sr-CS" sz="2200" spc="-1" strike="noStrike" u="sng">
                <a:solidFill>
                  <a:srgbClr val="ffffff"/>
                </a:solidFill>
                <a:uFillTx/>
                <a:latin typeface="Arial"/>
              </a:rPr>
              <a:t>узрочно-последичној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вез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22904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Последица </a:t>
            </a:r>
            <a:r>
              <a:rPr b="0" lang="sr-CS" sz="2200" spc="-1" strike="noStrike">
                <a:solidFill>
                  <a:srgbClr val="ffffff"/>
                </a:solidFill>
                <a:latin typeface="Arial Cirilica"/>
              </a:rPr>
              <a:t>су</a:t>
            </a:r>
            <a:r>
              <a:rPr b="0" lang="en-US" sz="2200" spc="-1" strike="noStrike">
                <a:solidFill>
                  <a:srgbClr val="ffffff"/>
                </a:solidFill>
                <a:latin typeface="Arial Cirilica"/>
              </a:rPr>
              <a:t> </a:t>
            </a:r>
            <a:r>
              <a:rPr b="1" lang="sr-CS" sz="2200" spc="-1" strike="noStrike" u="sng">
                <a:solidFill>
                  <a:srgbClr val="ffffff"/>
                </a:solidFill>
                <a:uFillTx/>
                <a:latin typeface="Arial"/>
              </a:rPr>
              <a:t>секундарне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повезаност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(фактор и обољење су повезани са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варијаблом па добијамо повезаност фактора и обољења, а не што су они стварно повезани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Трећи фактор (конфаундинг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мешати, уплитати с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често присутан у епидемиологиј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спречава да сагледамо прави однос обољења и фактор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Како процењујемо да су појаве удружене (да су у корелацији)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3. Две појаве су заиста у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КАУЗАЛНОМ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однос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22904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Ради се о високо </a:t>
            </a:r>
            <a:r>
              <a:rPr b="0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сигнификантној повезаности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која је последи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конфаундинг факто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раве повеза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раву повезаност откривамо посматрањем анамнестичким и кохортним студијама и пажљивом интерпретацијом њихових резулта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500" spc="-1" strike="noStrike">
                <a:solidFill>
                  <a:srgbClr val="ffffff"/>
                </a:solidFill>
                <a:latin typeface="Arial"/>
              </a:rPr>
              <a:t>Етиолошко расветљавање поремећаја здравља?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2280" y="2209320"/>
            <a:ext cx="88394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 Cirilica"/>
              </a:rPr>
              <a:t>Дефинициј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Повезаност међу догађајима је </a:t>
            </a:r>
            <a:r>
              <a:rPr b="1" lang="sr-CS" sz="3200" spc="-1" strike="noStrike" u="sng">
                <a:solidFill>
                  <a:srgbClr val="e22904"/>
                </a:solidFill>
                <a:uFillTx/>
                <a:latin typeface="Arial"/>
              </a:rPr>
              <a:t>КАУЗАЛНА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 уколико промене у </a:t>
            </a:r>
            <a:r>
              <a:rPr b="0" lang="sr-CS" sz="3200" spc="-1" strike="noStrike" u="sng">
                <a:solidFill>
                  <a:srgbClr val="ffcc00"/>
                </a:solidFill>
                <a:uFillTx/>
                <a:latin typeface="Arial"/>
              </a:rPr>
              <a:t>учесталости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 и </a:t>
            </a:r>
            <a:r>
              <a:rPr b="0" lang="sr-CS" sz="3200" spc="-1" strike="noStrike" u="sng">
                <a:solidFill>
                  <a:srgbClr val="ffcc00"/>
                </a:solidFill>
                <a:uFillTx/>
                <a:latin typeface="Arial"/>
              </a:rPr>
              <a:t>квалитету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 једних условљавају промену други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60440"/>
            <a:ext cx="69339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500" spc="-1" strike="noStrike">
                <a:solidFill>
                  <a:srgbClr val="ffffff"/>
                </a:solidFill>
                <a:latin typeface="Arial"/>
              </a:rPr>
              <a:t>Временска повезаност догађаја?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228564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Циљ постављања асоцијације између предпостављеног узрока и очекиване последице је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етиолошко расветљавање (утврђивање каузалност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20-10-02T08:50:52Z</dcterms:modified>
  <cp:revision>17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